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6D2-B3BD-479B-865C-6F536987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BD7-6489-4ABA-B69F-837796AA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F3E9-CD00-4DE9-A2F5-4E89EEC3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1D2-87F7-40EE-8130-86E78327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F225-88FE-435E-A575-87D67EC1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061D-69F6-48C8-A5C9-2C88A1E2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296D-0C57-4F35-B2EA-36DD7979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4B24-A906-49EA-B126-BFD1C0DD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E9A09-A3CE-4FFF-B1D9-BF9BF72B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0393-B3CF-492D-ABA9-76FEE5D7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CF15-42D0-403D-840C-222549E5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362D-A0BE-47E9-96E3-5E4A5E90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F3BB-27F4-4222-BB5B-5FD105D4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B34E-C42D-4D58-9E9B-DF088F67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4ADC-9ABD-4FB0-BB52-BA2C8A6D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6D4A-EE6D-4A0A-AC48-3D83B990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3A1E-5E45-4B27-BE89-A55EB6CD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09FD-AB3E-4B94-92D6-3C6DD8DF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CB2-CEBC-4574-BE5F-ABBD72F7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B79-5FFE-4AF7-8431-45BE3BB7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0E9-BBB3-48D8-923C-350CD62C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AC5C-67BA-42DA-9EEE-1285E96F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CC68-0D32-49B8-9B0B-2B312D6B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A410-1346-4130-B469-BBA5C442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9CB5-F508-43A9-9A7C-AE87553CF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101B-E189-4208-A502-2E0D7A9AE8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Preterite vs. Imperfec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ge 6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vancemos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terite vs. Imperf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the preterite and the imperfect together when an action (preterite) interrupts another that is taking place in the past (imperfect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stábam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el taller cuando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ntró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l profes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terite vs. Imperf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the imperfect when two or more actions are taking place simultaneously in the p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ientras los niños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pintaba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el profesor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observab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las pintur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ccecff"/>
                </a:solidFill>
                <a:latin typeface="Arial"/>
              </a:rPr>
              <a:t>Uses of the Imperfect</a:t>
            </a:r>
            <a:endParaRPr b="0" lang="en-US" sz="5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ou have learned to use the imperfect tense to describe something that </a:t>
            </a:r>
            <a:br>
              <a:rPr sz="3200"/>
            </a:b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used t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take place regular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You also use the imperfec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o describe people, places, and situations in the pas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cía mucho calor.  El estadio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stab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lleno.  Los espectadores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gritaba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ccecff"/>
                </a:solidFill>
                <a:latin typeface="Arial"/>
              </a:rPr>
              <a:t>Uses of the Imperfect</a:t>
            </a:r>
            <a:endParaRPr b="0" lang="en-US" sz="5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the imperfect to talk about a past action that was </a:t>
            </a:r>
            <a:r>
              <a:rPr b="0" lang="es-ES" sz="3200" spc="-1" strike="noStrike">
                <a:solidFill>
                  <a:srgbClr val="99ff99"/>
                </a:solidFill>
                <a:latin typeface="Arial"/>
              </a:rPr>
              <a:t>continuou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or that </a:t>
            </a:r>
            <a:r>
              <a:rPr b="0" lang="es-ES" sz="3200" spc="-1" strike="noStrike">
                <a:solidFill>
                  <a:srgbClr val="99ff99"/>
                </a:solidFill>
                <a:latin typeface="Arial"/>
              </a:rPr>
              <a:t>kept happening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 (habitual ac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atletas </a:t>
            </a:r>
            <a:r>
              <a:rPr b="0" lang="es-ES" sz="3200" spc="-1" strike="noStrike">
                <a:solidFill>
                  <a:srgbClr val="99ff99"/>
                </a:solidFill>
                <a:latin typeface="Arial"/>
              </a:rPr>
              <a:t>se entrenaba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el gimnas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ccecff"/>
                </a:solidFill>
                <a:latin typeface="Arial"/>
              </a:rPr>
              <a:t>Uses of the Imperfect</a:t>
            </a:r>
            <a:endParaRPr b="0" lang="en-US" sz="5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so use the imperfect to describe the date, time, age, and weather in the pas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ff99"/>
                </a:solidFill>
                <a:latin typeface="Arial"/>
              </a:rPr>
              <a:t>Er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l 5 de noviemb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99ff99"/>
                </a:solidFill>
                <a:latin typeface="Arial"/>
              </a:rPr>
              <a:t>Era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las seis de la mañana pero ya hacía cal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terite vs. Imperf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When speaking about the past, you can use either the preterite or the imperfect, depending on the sentence and the meaning you wish to convey.  Compar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te fin de semana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tomé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una clase de cerámic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uando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ra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iño,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tomab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clases de escultu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terite vs. Imperf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the preterite to tell about past actions that happened and are comple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sábado, la clase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mpezó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a las 10 de la mañ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terite vs. Imperf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the imperfect to tell about habitual actions in the p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uando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r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niño, las clases</a:t>
            </a:r>
            <a:r>
              <a:rPr b="0" lang="es-E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mpezaba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a las 5 de la tar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terite vs. Imperf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the preterite to give a sequence of actions in the p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uando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llegam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la profesora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sacó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su pintura y sus pinceles y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mpezó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pint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Preterite vs. Imperfe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the imperfect to give background details such as time, location, weather, mood, age, and physical and mental descrip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ra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las dos de la tarde. 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stábam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el parque. 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r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un día de otoño.  Todos </a:t>
            </a:r>
            <a:r>
              <a:rPr b="1" lang="es-ES" sz="3200" spc="-1" strike="noStrike">
                <a:solidFill>
                  <a:srgbClr val="99ff99"/>
                </a:solidFill>
                <a:latin typeface="Arial"/>
              </a:rPr>
              <a:t>estábam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muy conten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9:18:02Z</dcterms:created>
  <dc:creator>John McCreary</dc:creator>
  <dc:description/>
  <dc:language>en-US</dc:language>
  <cp:lastModifiedBy>Suzanne</cp:lastModifiedBy>
  <dcterms:modified xsi:type="dcterms:W3CDTF">2009-09-07T20:03:54Z</dcterms:modified>
  <cp:revision>5</cp:revision>
  <dc:subject/>
  <dc:title>Preterite vs. Imperfect</dc:title>
</cp:coreProperties>
</file>